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087-F4A4-41C0-9978-9976480A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5C2-2458-4F05-94F3-C50D1AD0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650-1FC2-458E-977E-82F4E912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A03-9527-438B-A50D-8F20AA6E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AC8-9F75-484B-BD7B-6FA166A9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2C5-10CA-4C9E-933C-3794ACE5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77E-CDCE-4E60-B1B4-390C083D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794-358D-4E66-87EA-C0D54A76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773-963E-417A-ACA2-B51AD227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51B-3F22-4783-99AA-5504B348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A9F-2B12-4E21-B492-0AEDDED3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DD1-B8A9-4D79-AD1F-29AB1797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AD28-408E-4C66-9AD1-E5585867E0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0000"/>
                </a:solidFill>
                <a:latin typeface="Arial"/>
              </a:rPr>
              <a:t>الاذ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i-IN" sz="3600" spc="-1" strike="noStrike">
                <a:solidFill>
                  <a:srgbClr val="ff0000"/>
                </a:solidFill>
                <a:latin typeface="Arial"/>
              </a:rPr>
              <a:t>تعريفها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هي عضو السمع تستقبل الاهتزاز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صوتية و توجهها الى الدما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ليقوم بتفسير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0099"/>
                </a:solidFill>
                <a:latin typeface="Arial"/>
              </a:rPr>
              <a:t>التقويم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99ff"/>
                </a:solidFill>
                <a:latin typeface="Arial"/>
              </a:rPr>
              <a:t>اكملي الفراغات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تالف الخارجية م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ما الاذن الوسطى تتالف م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غشاء الطبل يفصل بين الاذ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لاذ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99ff"/>
                </a:solidFill>
                <a:latin typeface="Arial"/>
              </a:rPr>
              <a:t>عللي 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جب فتح الفم عند سماع اصوات ق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جب معالجة التهاب البلع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99ff"/>
                </a:solidFill>
                <a:latin typeface="Arial"/>
              </a:rPr>
              <a:t>ماهي وظائف الاذن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قسام الاذ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Arial"/>
              </a:rPr>
              <a:t>الاذن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Arial"/>
              </a:rPr>
              <a:t>الاذن الوسط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Arial"/>
              </a:rPr>
              <a:t>الاذن الداخ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4986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الاذن الخارج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تالف م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الصيوا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غضروف مرن عل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تواءات تحدد جهة الصو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مجرى السمع الخارجي: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ن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نقل الاهتزازات من الصيو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ى غشاء الطبل تحوي غدد تفر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ادة شمعية توقف الغبار و الجراث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سمى </a:t>
            </a:r>
            <a:r>
              <a:rPr b="0" lang="hi-IN" sz="2800" spc="-1" strike="noStrike">
                <a:solidFill>
                  <a:srgbClr val="990099"/>
                </a:solidFill>
                <a:latin typeface="Arial"/>
              </a:rPr>
              <a:t>الصملا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نتهي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بغشاء الطب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276720" cy="633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6600"/>
                </a:solidFill>
                <a:latin typeface="Arial"/>
              </a:rPr>
              <a:t>تعريف غشاء الطب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و غشاء رقيق مرن مائل يفص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ين الاذن الخارجية و الوسط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6600"/>
                </a:solidFill>
                <a:latin typeface="Arial"/>
              </a:rPr>
              <a:t>وظيفته</a:t>
            </a:r>
            <a:r>
              <a:rPr b="0" lang="ar-SA" sz="3200" spc="-1" strike="noStrike">
                <a:solidFill>
                  <a:srgbClr val="cc6600"/>
                </a:solidFill>
                <a:latin typeface="Arial"/>
              </a:rPr>
              <a:t>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قل الاهتزازات من الاذ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خارجية الى الاذن الوسط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067200" cy="400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0099"/>
                </a:solidFill>
                <a:latin typeface="Arial"/>
              </a:rPr>
              <a:t>الاذن الوسط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الف من ثلاث عظ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غير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6600"/>
                </a:solidFill>
                <a:latin typeface="Arial"/>
              </a:rPr>
              <a:t>المطر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6600"/>
                </a:solidFill>
                <a:latin typeface="Arial"/>
              </a:rPr>
              <a:t>السند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6600"/>
                </a:solidFill>
                <a:latin typeface="Arial"/>
              </a:rPr>
              <a:t>الركاب او الكعب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cc00"/>
                </a:solidFill>
                <a:latin typeface="Arial"/>
              </a:rPr>
              <a:t>تسكن ضمن العظم الصدغ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99"/>
                </a:solidFill>
                <a:latin typeface="Arial"/>
              </a:rPr>
              <a:t>وظيفتها:نقل الاهتزاز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99"/>
                </a:solidFill>
                <a:latin typeface="Arial"/>
              </a:rPr>
              <a:t> 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99"/>
                </a:solidFill>
                <a:latin typeface="Arial"/>
              </a:rPr>
              <a:t>الاذن الخارجية الى الاذ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99"/>
                </a:solidFill>
                <a:latin typeface="Arial"/>
              </a:rPr>
              <a:t>ال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تنتهي بنافذتين البيضوية و المد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تتصل بالبلعوم بقناة نفير اوستا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356400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لاذن الداخ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سكن ضمن العظم الصدغ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تالف 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99"/>
                </a:solidFill>
                <a:latin typeface="Arial"/>
              </a:rPr>
              <a:t>الحلزون او ما يسمى بالقوق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99"/>
                </a:solidFill>
                <a:latin typeface="Arial"/>
              </a:rPr>
              <a:t>القنوات النصف دائ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99"/>
                </a:solidFill>
                <a:latin typeface="Arial"/>
              </a:rPr>
              <a:t>الدهليز:يتكون من القري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99"/>
                </a:solidFill>
                <a:latin typeface="Arial"/>
              </a:rPr>
              <a:t>و الكيي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888000" cy="37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cc"/>
                </a:solidFill>
                <a:latin typeface="Arial"/>
              </a:rPr>
              <a:t>كيف يحدث السم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</a:rPr>
              <a:t>يستقبل الصيوان الاهتزاز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</a:rPr>
              <a:t>ويوجهها الى مجرى السم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</a:rPr>
              <a:t>فيهتز غشاء الطبل فتهت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</a:rPr>
              <a:t>عظيمات الاذن الوسطى ث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ينتق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</a:rPr>
              <a:t>الاهتزازالى النافذة البيضوية ث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</a:rPr>
              <a:t>الى الحلزون في الاذن الداخ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</a:rPr>
              <a:t>حيث يتنبه العصب السمعي فينق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cc"/>
                </a:solidFill>
                <a:latin typeface="Arial"/>
              </a:rPr>
              <a:t>التنبيه الى الدماغ الذي يق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بتفسير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624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cc"/>
                </a:solidFill>
                <a:latin typeface="Arial"/>
              </a:rPr>
              <a:t>هل للاذن وظيفة اخرى غير السم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قوم الاذ ن الداخلية (الدهليزوالقنوات النصف دائر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بنقل الاهتزازات الناتجة عن حركة الراس الى المخي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9900"/>
                </a:solidFill>
                <a:latin typeface="Arial"/>
              </a:rPr>
              <a:t>صحة الاذ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0099"/>
                </a:solidFill>
                <a:latin typeface="Arial"/>
              </a:rPr>
              <a:t>يجب معالجة التهاب البلعوم حتى لاينتقل الى الاذن ع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990099"/>
                </a:solidFill>
                <a:latin typeface="Arial"/>
              </a:rPr>
              <a:t>طريق قناة نفير اوستا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0099"/>
                </a:solidFill>
                <a:latin typeface="Arial"/>
              </a:rPr>
              <a:t>يجب تجفيف الاذن بعد الاستحم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0099"/>
                </a:solidFill>
                <a:latin typeface="Arial"/>
              </a:rPr>
              <a:t>يجب فتح الفم عند سماع الاصوات القوية حتى يتساو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i-IN" sz="3200" spc="-1" strike="noStrike">
                <a:solidFill>
                  <a:srgbClr val="990099"/>
                </a:solidFill>
                <a:latin typeface="Arial"/>
              </a:rPr>
              <a:t>الضغط على جانبي غشاء الط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2:15:16Z</dcterms:created>
  <dc:creator>pc</dc:creator>
  <dc:description/>
  <dc:language>en-US</dc:language>
  <cp:lastModifiedBy>PC</cp:lastModifiedBy>
  <dcterms:modified xsi:type="dcterms:W3CDTF">2010-04-18T21:58:47Z</dcterms:modified>
  <cp:revision>8</cp:revision>
  <dc:subject/>
  <dc:title>الاذن</dc:title>
</cp:coreProperties>
</file>